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AD035E9-3B61-4763-BF92-4C2CC3684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3481BFA-6D2A-47BE-B5F2-9645971EF7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C8F8B47-D2F8-4B15-998A-B5CD14188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E7BBED-CFBD-4C9A-8668-95C1AC67AE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6BEE29-A7B5-4793-9F04-0E400823E1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20A5AF5-34B6-423F-BCCF-4027E43F09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5F687E4-379C-41FA-9A5F-583B44AE80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50E5FEB-34FD-4A1E-8E43-916930B9A9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A5456E-39B1-4D2C-BBFD-5244171171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E6A5AB6-A7E0-4572-B23F-C3A1A65A33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9F390A-D804-4124-877A-F34FAF516C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D475AF2-B4F5-489C-9F53-AA7272996F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53A5E02-6C5B-45C2-9ABF-4FF49EF826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3BEDED2-5DDA-48BE-A0A6-C426368AC6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68E2FEF-084C-4A40-B339-0BA81379E5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7B9968-882F-4F18-9ABB-338EF7DD60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5813A15-1B4A-41E2-B5DA-3B0CCB324A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19AF938-B63F-4916-9DD3-DBB3E3D6B1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5A6D76F-94FA-4432-B62E-861A1AB845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0560E3-E53B-44E8-BC92-8CC3A4923C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841846-82F4-4BA0-A53C-36381A8519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20E0CA-C04A-4670-862B-6ED34B2F3A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45C8E2-DFE6-47D7-B6CD-D790096948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15B49E-EF5C-4859-B94D-F1CB04BF04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E4731B-392C-4F4A-B354-F0756AED6E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539D1C-A33C-43FF-87D1-35A5C74ABE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C2D6FF-0463-4513-8787-E9AA4CBECB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8EF100-1878-4E61-9D87-06F522AC99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E30-D624-4030-B838-656D4364A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hapter:12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alking and Homicid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280" y="380880"/>
            <a:ext cx="8334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reat Assessment of Stalkers: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ttended col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ly i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histories of arrest for violent c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es of harassing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es of explosive, angry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histories of physical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es of serious depression or des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suic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erpetrators of Stal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99036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perpetrators are 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profile of a st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ty or mental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fied demo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half are Caucas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o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hird, history of adult violent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racteristics of Perpetrato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relationship – private figur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imate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quaintance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evious relationship or limited /inci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figure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7168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stranger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ategories of Stalker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or Simple Obsessional Stal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ve Obsessional Stal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oto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geance and Terrorism Stal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 Law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,California first state to pas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ates consider it to be a felony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created and defined criminal offense, laws vary from state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ly written statutes, difficult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state Stalking Punishment and Preven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vestigative Strateg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0663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The Victim’s Cred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se Victimization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The Offender’s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hering Physical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Previous Law Enforcemen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ing Third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ing Circumstantial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In Obtaining Restraining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ategories of Hom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fiable 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usable 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onious 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Battered Women’s Syndrom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excusable homic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um of violence excuses the woman who kills her husband, legally justif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of learned helpless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aracteristics of syndr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believes violence is her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has inability to place responsibility else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fears for her life and/or her children’s l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has an irrational belief, abuser is omnipresent and omnis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Hom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are spouses or ex-spo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imate partner homicid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known as family killing, the killing of a spouse, ex-spouse, boyfriend, or girl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between intimate partner homicide, stalking, and intimate partner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emicid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killing of a woman by her relative, friend or l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commit the majority of these mu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Homicide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p 11 percent of all mu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atalyst – separation or the start of legal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dangerous times, 3 months to 1 year after the sepa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s have declined since 1975, lowest recorded in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ervices to female victims increased, homicides decrea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king defined as a pattern of repeated and unwanted attention, harassment, contact, or any other course of conduct directed at a specific person that would cause a reasonable person to feel f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oneering legislative action in California coined 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l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Risk Factors in Homicid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914400"/>
            <a:ext cx="834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ed history of intimate partner violence is the most significant risk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wo thirds of spouse and ex-spouse victims were killed by g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 of factors increase the likelih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ser is unemploy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g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ats of deadly violenc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ser is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illness backg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icit drug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criminal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imate Partner Homicide Defendan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defendants more likely to be convicted of lesser grades of homic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ctioned less sever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s defendants treated more harsh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s more severely sanctioned than other males convicted of non-intimate homi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s is defensive and occurs within the context of a history of domestic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micide-Su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ional Violent Death Reporting System (NVDRS) recently established to track suicide-homicid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2 percent of all homicides are classified as cases of murder-sui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husband kills his wife or partner and within minutes or hours commits suic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mil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as a multiple-victim homicide incident in which the killer’s spouse or ex-spouse and one or more children is sl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percent of homicides of children and youth were committed as part of multiple-victim family homic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perpetrated by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divided between sons and daugh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Gay and Lesbian Partner Homic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ame sex homicides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rors the violence in the heterosexual sexual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Coalition of Anti-Violence Programs are among the few organizations that collect information on intimate partner vio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omicide in Later Lif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90720"/>
            <a:ext cx="834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er adults have homicide-suicide rates that are twice as high as those of younger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le for 1,000 death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older Americans die each week in homicide-suic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of desperation and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-prot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spcBef>
                <a:spcPts val="601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io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vestigative Strateg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345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6, more than 64,000 men and women are been murdered by intimate part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are most often the perpetrators and the victims of homi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are nine times more likely than women to commit mu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s to assist police officers established unde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cey v. Arizon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ath Review Tea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multidisciplinary team was to share resources and information in the forensic investigation of child fata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child review teams are available in all 50 stat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er-Agency Council on Child Abuse and Neglect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C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ly, the first elder review team was established in 2000, in Califor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DIRT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rpose is to assist in the identification and prosecution of elder-abuse related dea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83808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fornia responded as the first state to pass antistalking la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known as the crime of the 199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stimated that stalkers are violent toward their victims period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likely to be violent are those that have had an intimate relationship with the vic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ght percent of women and 2 percent of men have been stalked in their life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der-neutral c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at is stalking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tern of behavior that is intended to cause harm or to instill fear in a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or harassing is the typical characteristic of the off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sists of a series of actions rather than a single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petitive actions instill significant fear of bodily harm or cause injury, it constitutes a pattern that is illeg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 Behavio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s of the stalker are var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ly attempt to intimidate and control their victi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ence occurs in 30 to 50 percent of stalking c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violence noted in 6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pons are used to harm or threaten victim and the pattern of contac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tims are pursued at least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talking Pursuit Characteristic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14264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ing the subject in pers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part in surveill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letters/cards/fax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glariz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ackages or gif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third party to contact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lking over cyber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mmon Elements of Stal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tanding outside of home, spying on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080" indent="-4420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arming the person and annoy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080" indent="-442080">
              <a:spcBef>
                <a:spcPts val="799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ifficult to estab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oes not need to be written or ver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inting a finger with 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ad animal at doorst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ctims of Stalking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06632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one, male or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of five victims are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 were victims 20 percent of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adults primar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ictims know their st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women, stalking occurs as part of intimate partner viol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afety Precautions for Stalking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 a house 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mailbox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n answering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new and unlisted teleph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cell phone and carry it at all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everything, keep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log of suspicious oc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a confidential voter stats and new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k car in lit area and lock do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 car with 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4:28:32Z</dcterms:modified>
  <cp:revision>140</cp:revision>
  <dc:subject/>
  <dc:title>Slide 1</dc:title>
</cp:coreProperties>
</file>